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27B-CB86-498A-B68F-FEDC75A7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1CE-7F64-41D5-8320-07E6983A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DC3-91F3-4210-B56D-0AD6EB46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008-EE2A-4B37-96E4-F31567AF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AB88-EBDD-4606-BD9A-57A7123A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EF16-B863-4EC4-8497-C2A6E11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E330-C2B9-4A67-912A-86ACC28B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D20A-05D2-4AFC-9C8D-E8E81A6B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420C-EEF1-441C-ACBB-DA5EB6C0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11A8-CC80-4155-B88D-B9FAD6DD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D556-3413-4D7E-AF95-1F1E5A2D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253-8AF2-43BD-A783-D10A56D5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028F-6EA8-40C0-B98B-4E54DD7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A5D4-0646-40C9-BF40-4F843054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2CE4-0D60-446F-B921-C0ADCE2E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9A90-479B-46A0-843F-21E4D16B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CFD2-4C38-4531-9D6C-3380A02F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048-160B-41BD-AC92-C8162CD8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93F-11F5-4FCC-AAFC-7B8C1716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E03-9EC9-4B25-BBC7-43D7E15A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A35-6408-44C2-90C5-4FBEF07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D3D-4C6B-46E5-A4A1-940AF05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6CC-8D87-40BF-86D7-63F9937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791-6DCD-4E16-902B-990A28A9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86E7-E86D-4FC7-B95A-61E145E2D6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3186-9A83-4B1A-90B6-F72B0BC9B9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2c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nder Bias Survey (Children &amp; Adult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atthe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65960" y="1828800"/>
            <a:ext cx="177804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2824200" cy="2187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00720" y="3962520"/>
            <a:ext cx="296676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286000" y="3476520"/>
            <a:ext cx="22255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Resu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results of the children survey I found out that their answers were mostly based on their gender and what they thought about the other gen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results of the adult survey the answers given were based on their experiences and also their thoughts of the other gen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concluded that people of a higher age have more thought about the questions and answers. However most of the children answers I got were based on thoughts , gender , and stereotypes. I have also found out that I have some stereotypical thoughts of my gender, and some that are not stereotyp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 part</a:t>
            </a:r>
            <a:r>
              <a:rPr b="1" lang="en-US" sz="4400" spc="-1" strike="noStrike">
                <a:solidFill>
                  <a:srgbClr val="ffffb7"/>
                </a:solidFill>
                <a:latin typeface="Lucida Console"/>
              </a:rPr>
              <a:t> II      (questions for m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tereotypes affect how we see and interact with other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using stereotypes to judge people harmf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you find out about yoursel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you find biases that you didn’t know you had? What were the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we do right now that can help end gender bi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 part </a:t>
            </a:r>
            <a:r>
              <a:rPr b="1" lang="en-US" sz="4400" spc="-1" strike="noStrike">
                <a:solidFill>
                  <a:srgbClr val="ffffb7"/>
                </a:solidFill>
                <a:latin typeface="Lucida Console"/>
              </a:rPr>
              <a:t>III  (answers from m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eotypes do interact with our thoughts of other people and what they believe about both genders to make their abilities better or w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stereotypes can be harmful in ways of a persons religion , gender , or personal belief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ound out that I had some biases that indeed involve my gender and some that were based on what I thought about the other gender. I also found out that we can protest or collect and share ideas that can help end gender bias righ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Lucida Console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Lucida Console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this unit is to survey children and adults on gender bias and stereotypical questions. I hope to learn how people base their answers and some things about myself that I didn’t know befo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 questions  (kid survey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Do you think  men should be more polite tha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Are women are more athletic than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Should men be criticized by women on how they loo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Should men play video games more tha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Are women easier to work with than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 Questions  (kid survey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Were better inventions made by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Could men survive on an uncivilized island longer tha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Do you think women are physically healthier than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Do women follow directions better than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Could a man rule a country better than a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id   Answ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295280"/>
          <a:ext cx="7848360" cy="5693040"/>
        </p:xfrm>
        <a:graphic>
          <a:graphicData uri="http://schemas.openxmlformats.org/drawingml/2006/table">
            <a:tbl>
              <a:tblPr/>
              <a:tblGrid>
                <a:gridCol w="347400"/>
                <a:gridCol w="282600"/>
                <a:gridCol w="316080"/>
                <a:gridCol w="314280"/>
                <a:gridCol w="316080"/>
                <a:gridCol w="315720"/>
                <a:gridCol w="338040"/>
                <a:gridCol w="292320"/>
                <a:gridCol w="312480"/>
                <a:gridCol w="317520"/>
                <a:gridCol w="316080"/>
                <a:gridCol w="312840"/>
                <a:gridCol w="317520"/>
                <a:gridCol w="312480"/>
                <a:gridCol w="316080"/>
                <a:gridCol w="317520"/>
                <a:gridCol w="314280"/>
                <a:gridCol w="355680"/>
                <a:gridCol w="272880"/>
                <a:gridCol w="316080"/>
                <a:gridCol w="315720"/>
                <a:gridCol w="314280"/>
                <a:gridCol w="316080"/>
                <a:gridCol w="315720"/>
                <a:gridCol w="282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 Questions (Adult survey)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1 Do you think men can cook better than women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2 Do you think men listen to women more than women listen to men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3 Do men have more knowledge about the economy than women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4 Are men more lazy than women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5 Do men care about the environment more tha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 Questions (Adult survey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1 Do women smoke more than 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2 Do women socialize more than 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3 Do women have better memories than 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4 Are men more competitive than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5 Could men live without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6 Could women live without 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ult answer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219320"/>
          <a:ext cx="8007480" cy="6229080"/>
        </p:xfrm>
        <a:graphic>
          <a:graphicData uri="http://schemas.openxmlformats.org/drawingml/2006/table">
            <a:tbl>
              <a:tblPr/>
              <a:tblGrid>
                <a:gridCol w="727200"/>
                <a:gridCol w="728640"/>
                <a:gridCol w="677880"/>
                <a:gridCol w="777600"/>
                <a:gridCol w="727200"/>
                <a:gridCol w="730440"/>
                <a:gridCol w="726840"/>
                <a:gridCol w="728640"/>
                <a:gridCol w="727200"/>
                <a:gridCol w="728640"/>
                <a:gridCol w="72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ult answ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905120"/>
          <a:ext cx="8007480" cy="5175000"/>
        </p:xfrm>
        <a:graphic>
          <a:graphicData uri="http://schemas.openxmlformats.org/drawingml/2006/table">
            <a:tbl>
              <a:tblPr/>
              <a:tblGrid>
                <a:gridCol w="727200"/>
                <a:gridCol w="728640"/>
                <a:gridCol w="727200"/>
                <a:gridCol w="728640"/>
                <a:gridCol w="726840"/>
                <a:gridCol w="730440"/>
                <a:gridCol w="727200"/>
                <a:gridCol w="728640"/>
                <a:gridCol w="726840"/>
                <a:gridCol w="76356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43:21Z</dcterms:created>
  <dc:creator>Vanessa Collier</dc:creator>
  <dc:description/>
  <dc:language>en-US</dc:language>
  <cp:lastModifiedBy>Joni George</cp:lastModifiedBy>
  <dcterms:modified xsi:type="dcterms:W3CDTF">2010-04-27T18:28:46Z</dcterms:modified>
  <cp:revision>19</cp:revision>
  <dc:subject/>
  <dc:title>Gender Bias Survey</dc:title>
</cp:coreProperties>
</file>